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1E43-4D31-44D5-8DEB-1B8D4DEAA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4988-4C54-4E2B-BA9F-C2FFB5B42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lideplayer.com/slide/816916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2D0D-5BF4-45FE-AEA3-E3D8460D7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E7DC-0D93-4BED-B136-3E08227C6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-pictures.blogspot.ca/2013/06/secondary-structure-of-protei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H-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8CF0-A60C-4AE1-AF04-0524C8D9A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alevelnotes.com/Protein-Structure/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alevelnotes.com/Protein-Structure/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4C6B-2659-4A78-AD3C-DAE216754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1BAC-8A02-4CCA-A651-D8775EB1F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35F7-783D-44AA-8785-7A0A297E6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bioc208.blogspot.com/2009_11_01_archive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40FD-488F-43C0-8D23-E1B5CFCC0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shuttervoice.com/15497/sickle-cell-anemia-awareness-campaig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6A34-3FEE-4810-93F6-0EA836C05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78stepshealth.us/plasma-membrane/membrane-composition-and-structur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EC3C-63EA-41C0-A825-CB35FD68A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5CF0-A74C-44B3-84B6-ABF304C46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eautifulactivenourished.com/nutrition/combining-food-for-optimum-digestion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91F2-E3CF-4F55-8A7A-E5C3E450B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herb.com/product-reviews/Solgar-Whey-To-Go-Whey-Protein-Powder-Natural-Vanilla-Flavor-32-oz-907-g/37656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3E02-72EE-451C-9018-3CD721F9C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33B8-C39E-465A-B8DC-3380B0C70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othbrainsandbeauty.com/page/3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901F-6F2F-40F6-ADE9-8C340D224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ee also Figure 2 (p.40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f.fu-berlin.de/lehre/WS14/ProteomicsWS14/LUS/lu1d/201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D648-DDF0-4211-97D7-776F4E9B1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academic.pgcc.edu/~ssinex/blt/proteins/proteins.htm</a:t>
            </a:r>
            <a:br>
              <a:rPr sz="300"/>
            </a:b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show dehydration synthesis in formation of peptide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2730-1CBD-4F2B-A09A-BC499EF1B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AF4C-0F27-4096-B490-C545EFD3A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umass.edu/molvis/workshop/prot1234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3712-25E4-4E36-8E36-3DB96D44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979-1464-4A78-BE22-57D99DCC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0857-A8CC-4719-AE2B-ACF21009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A8A-FC28-4B25-A2EA-F70EC766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3A3E-2569-4044-8CDF-0AEB6CFD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837-8647-4376-9EEA-5988E3A3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6699-5167-421D-829D-CB6297CC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EC3-1672-4F2B-B44C-B0E03233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11A-D3DB-4162-813C-1C5842DA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B9E-6B3E-4C78-81AB-DDB68AD9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32B-8BC9-4423-8307-C6419049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C1D4-44AE-4D00-93A2-B1850C1E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7B25-9F9F-4C57-92F2-4E7F3F871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-ctkPUUpUc&amp;feature=channe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I4U - Bio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molecules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3" descr="slide_7.jpg"/>
          <p:cNvPicPr/>
          <p:nvPr/>
        </p:nvPicPr>
        <p:blipFill>
          <a:blip r:embed="rId1"/>
          <a:srcRect l="-1923" t="0" r="-1923" b="0"/>
          <a:stretch/>
        </p:blipFill>
        <p:spPr>
          <a:xfrm>
            <a:off x="755640" y="549360"/>
            <a:ext cx="77770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Protei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Protein_-_Secondary_Structure"/>
          <p:cNvPicPr/>
          <p:nvPr/>
        </p:nvPicPr>
        <p:blipFill>
          <a:blip r:embed="rId1"/>
          <a:stretch/>
        </p:blipFill>
        <p:spPr>
          <a:xfrm>
            <a:off x="1239840" y="1981080"/>
            <a:ext cx="666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tiary Protei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2" descr="Image85.gif"/>
          <p:cNvPicPr/>
          <p:nvPr/>
        </p:nvPicPr>
        <p:blipFill>
          <a:blip r:embed="rId1"/>
          <a:srcRect l="-35337" t="0" r="-35337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ternar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3" descr="protein21.JPG"/>
          <p:cNvPicPr/>
          <p:nvPr/>
        </p:nvPicPr>
        <p:blipFill>
          <a:blip r:embed="rId1"/>
          <a:srcRect l="-40899" t="0" r="-40899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Protei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teins also require non-protein prosthetic groups to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has 4 polypeptides, and 4 heme groups (each with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e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846440" y="1981080"/>
            <a:ext cx="544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ckle-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NA mutation causes a change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amino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one of the 4 polypeptide chains of hemoglo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Sickle-Cell-Anemia"/>
          <p:cNvPicPr/>
          <p:nvPr/>
        </p:nvPicPr>
        <p:blipFill>
          <a:blip r:embed="rId1"/>
          <a:stretch/>
        </p:blipFill>
        <p:spPr>
          <a:xfrm>
            <a:off x="4971960" y="1981080"/>
            <a:ext cx="316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a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 conditions (heat, pH, exposure to radiation)  can cause bonds between amino acids to be disrupted, causing the shape of a protein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 change in biologica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ran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Content Placeholder 3" descr="3342_121_160-integral-membrane-proteins.jpg"/>
          <p:cNvPicPr/>
          <p:nvPr/>
        </p:nvPicPr>
        <p:blipFill>
          <a:blip r:embed="rId1"/>
          <a:srcRect l="-34523" t="0" r="-34523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diverse group of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ital structures and functions in 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proteins"/>
          <p:cNvPicPr/>
          <p:nvPr/>
        </p:nvPicPr>
        <p:blipFill>
          <a:blip r:embed="rId1"/>
          <a:stretch/>
        </p:blipFill>
        <p:spPr>
          <a:xfrm>
            <a:off x="4648320" y="2657520"/>
            <a:ext cx="38098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Fun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OL-03668-2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5800" y="1981080"/>
          <a:ext cx="7772400" cy="4410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air, tendons,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ntibodi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rmones, messenger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ov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across membran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gnition &amp; recepto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ell surfac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ov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of cells &amp; structur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zy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 are polymers of 20 different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rest can be synthesized by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amino_acid_structure_2"/>
          <p:cNvPicPr/>
          <p:nvPr/>
        </p:nvPicPr>
        <p:blipFill>
          <a:blip r:embed="rId1"/>
          <a:stretch/>
        </p:blipFill>
        <p:spPr>
          <a:xfrm>
            <a:off x="4648320" y="2763720"/>
            <a:ext cx="38098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4" descr="aa_properties.png"/>
          <p:cNvPicPr/>
          <p:nvPr/>
        </p:nvPicPr>
        <p:blipFill>
          <a:blip r:embed="rId1"/>
          <a:srcRect l="-23485" t="0" r="-23485" b="0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ptide Bond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w-ctkPUUpUc&amp;feature=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aa1aa2"/>
          <p:cNvPicPr/>
          <p:nvPr/>
        </p:nvPicPr>
        <p:blipFill>
          <a:blip r:embed="rId2"/>
          <a:stretch/>
        </p:blipFill>
        <p:spPr>
          <a:xfrm>
            <a:off x="2135160" y="1981080"/>
            <a:ext cx="487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pt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hain of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pept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hain of 50+ a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and number of a.a. in a protein determines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structure of the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tei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rotein-structure2"/>
          <p:cNvPicPr/>
          <p:nvPr/>
        </p:nvPicPr>
        <p:blipFill>
          <a:blip r:embed="rId1"/>
          <a:stretch/>
        </p:blipFill>
        <p:spPr>
          <a:xfrm>
            <a:off x="685800" y="2409840"/>
            <a:ext cx="777240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0:27:25Z</dcterms:created>
  <dc:creator>rubina khan</dc:creator>
  <dc:description/>
  <dc:language>en-US</dc:language>
  <cp:lastModifiedBy>rubina khan</cp:lastModifiedBy>
  <dcterms:modified xsi:type="dcterms:W3CDTF">2017-02-15T11:08:17Z</dcterms:modified>
  <cp:revision>218</cp:revision>
  <dc:subject/>
  <dc:title>Organic Chemistry</dc:title>
</cp:coreProperties>
</file>